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4AC-8467-4636-8F4F-ABAC42D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433-2E1C-47CD-AB4D-37C27DD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6DF-359D-4FD0-9E8B-716A9AF8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5B6-F2C2-40BF-84B0-4639567B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CDA-7698-4F59-9EE7-06553C6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863-9C03-4F93-A482-91CD692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1DF-BE64-45C3-81E6-D5DB44D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9DC-B2F0-4F67-ADDC-7320693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06B-F338-47BE-994E-124CD84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5D8-3540-49F1-8884-A5DBAF8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35B-A1E4-4763-85F8-70B4C497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7DB-66DB-4342-B945-CCB4A14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B7F-A9C9-453D-96C2-465086BEFF3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8 Ráč naše det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naše deti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ó, Pane, v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ť ich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v mnohom deti n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zor si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láskou si žehnal i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ruky b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cestou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ráčaj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o, že rád ich máš pamät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e dedičstvo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cirkev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Duch tvo ochrán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cho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28:59Z</dcterms:modified>
  <cp:revision>69</cp:revision>
  <dc:subject/>
  <dc:title>Je veľký náš Pán, on slávy je Kráľ Nech do všetkých strán  spev vrúcnych znie chvál.</dc:title>
</cp:coreProperties>
</file>